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7D93-5F9A-4205-ABFA-BF80CBDE7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40A-A8CA-4935-984B-F55F89B62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9920-6048-4808-B9BC-95E54BF7F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4762-0172-4012-A555-FB83B580B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19DE-6576-432C-B1B8-13299F972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0EFE-2C79-4F0D-BCE0-339301ED7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8AB7-304E-443B-841D-FC62FA660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50E77-39AD-4747-90C2-9A19DB7F2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B12E-0E75-404D-A717-470F05FBA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A1D9-7E69-4895-88C5-80DFB3AD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00E-AC65-4994-BF19-279F3F799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8777-8BE7-4AA8-8D44-DC2218BF0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3BBA7-A5AF-484A-93D7-897677C32A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777240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éthode KANB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42920" y="595008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ean-Mickaël ESTEVES   Mikaël MEUNIER   Aurélien GOM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95160" cy="8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70930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916000" y="1557000"/>
            <a:ext cx="6227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Avantages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95160" cy="8240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572000" y="3429000"/>
            <a:ext cx="4572000" cy="25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inution des stocks intermédi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 de prévisions à réaliser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Éviter les surproductions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éveloppement de bases saines 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stion pour l’entrepri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875640" y="0"/>
            <a:ext cx="22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méthode KAN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1095480"/>
            <a:ext cx="20509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 Histor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 Principes de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.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Avan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im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70930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916000" y="1557000"/>
            <a:ext cx="6227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 Limites -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95160" cy="8240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4427640" y="3429000"/>
            <a:ext cx="4716360" cy="18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tion régulière et répétitive d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its si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s de gestion par anticip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875640" y="0"/>
            <a:ext cx="22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méthode KAN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1095480"/>
            <a:ext cx="20509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 Histor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 Principes de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.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vantag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Limi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695160" cy="8240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875640" y="0"/>
            <a:ext cx="22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méthode KAN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04960" y="635040"/>
            <a:ext cx="5746680" cy="298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loucester MT Extra Condensed"/>
              </a:rPr>
              <a:t>Pliages   TUDOR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loucester MT Extra Condensed"/>
              <a:ea typeface="Gloucester MT Extra Condense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Gloucester MT Extra Condensed"/>
              </a:rPr>
              <a:t>Meunier &amp; fil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Gloucester MT Extra Condensed"/>
              <a:ea typeface="Gloucester MT Extra Condensed"/>
            </a:endParaRPr>
          </a:p>
        </p:txBody>
      </p:sp>
      <p:sp>
        <p:nvSpPr>
          <p:cNvPr id="130" name=""/>
          <p:cNvSpPr/>
          <p:nvPr/>
        </p:nvSpPr>
        <p:spPr>
          <a:xfrm>
            <a:off x="1028880" y="4000680"/>
            <a:ext cx="71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ions  /  Cocottes  /  Bateaux  /  Porte-avions  /  Oiseaux  /  Sous-marins nucléaires  /  Chapeaux  /  Grenouilles  /  Gérard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398840" y="5302080"/>
            <a:ext cx="364824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ebdbd"/>
                    </a:gs>
                  </a:gsLst>
                  <a:lin ang="5400000"/>
                </a:gradFill>
                <a:latin typeface="Impact"/>
              </a:rPr>
              <a:t>Seulement     14.99€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ebdbd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32" name="Documents"/>
          <p:cNvSpPr/>
          <p:nvPr/>
        </p:nvSpPr>
        <p:spPr>
          <a:xfrm rot="4614000">
            <a:off x="1672920" y="4822560"/>
            <a:ext cx="1352520" cy="1809720"/>
          </a:xfrm>
          <a:prstGeom prst="pie">
            <a:avLst/>
          </a:prstGeom>
          <a:solidFill>
            <a:srgbClr val="fe7e7e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-324000" y="0"/>
            <a:ext cx="9468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méthode KANB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95160" cy="824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187280" y="3573360"/>
            <a:ext cx="3961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cipes de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709308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916000" y="1557000"/>
            <a:ext cx="6227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to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95160" cy="8240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4427640" y="3213000"/>
            <a:ext cx="4573440" cy="34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Naissance au Japon dans les années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  5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ise en place chez Toyota (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iichi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hno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Japo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373000 km² (2/3 Franc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montagneux, 60% forê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→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problèmes de stockag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(diminution des stock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75640" y="0"/>
            <a:ext cx="22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méthode KAN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1095480"/>
            <a:ext cx="20509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1. Histor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 Principes de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.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709308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916000" y="1557000"/>
            <a:ext cx="622764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95160" cy="8240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0" y="1095480"/>
            <a:ext cx="20509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 Histor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2. Principes de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333399"/>
                </a:solidFill>
                <a:latin typeface="Arial"/>
              </a:rPr>
              <a:t>Dé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ègles de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ché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Gestion des priori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ompara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.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284720" y="3357720"/>
            <a:ext cx="48592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nban = Etiquette associée à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chaque contain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tangle de petite taille conten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informations suivant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identification de la piè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éférence du poste amo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éférence du poste a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quant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75640" y="0"/>
            <a:ext cx="22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méthode KAN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709308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00720" y="1557000"/>
            <a:ext cx="464328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ègles de b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95160" cy="82404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4427640" y="3213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72000" y="3429000"/>
            <a:ext cx="4572000" cy="286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 pas fournir de produits défectueu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cellule suivante doit venir prendre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 piè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ire juste la quantité retirée pa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’a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75640" y="0"/>
            <a:ext cx="22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méthode KAN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095480"/>
            <a:ext cx="20509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 Histor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2. Principes de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333399"/>
                </a:solidFill>
                <a:latin typeface="Arial"/>
              </a:rPr>
              <a:t>Règles de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ché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Gestion des priori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ompara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.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709308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954160" y="1569600"/>
            <a:ext cx="60120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ché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95160" cy="8240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2246400" y="3578400"/>
            <a:ext cx="6734160" cy="27748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349880" y="3722760"/>
            <a:ext cx="307800" cy="290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67400" y="3765600"/>
            <a:ext cx="3445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605560" y="4964040"/>
            <a:ext cx="2588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72000" y="4737240"/>
            <a:ext cx="34452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0"/>
            <a:ext cx="22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méthode KAN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095480"/>
            <a:ext cx="20509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 Histor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2. Principes de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ègles de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333399"/>
                </a:solidFill>
                <a:latin typeface="Arial"/>
              </a:rPr>
              <a:t>Sché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Gestion des priori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ompara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.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709308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211280" y="1557000"/>
            <a:ext cx="493236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stion des priorité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95160" cy="8240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427640" y="3213000"/>
            <a:ext cx="417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357336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se en place d’un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6732720" y="3357720"/>
          <a:ext cx="2160360" cy="3081240"/>
        </p:xfrm>
        <a:graphic>
          <a:graphicData uri="http://schemas.openxmlformats.org/drawingml/2006/table">
            <a:tbl>
              <a:tblPr/>
              <a:tblGrid>
                <a:gridCol w="2160360"/>
              </a:tblGrid>
              <a:tr h="310680">
                <a:tc>
                  <a:txBody>
                    <a:bodyPr lIns="90000" rIns="90000" tIns="18000" bIns="18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bleau KANB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6296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7e7e"/>
                    </a:solidFill>
                  </a:tcPr>
                </a:tc>
              </a:tr>
              <a:tr h="46296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7e7e"/>
                    </a:solidFill>
                  </a:tcPr>
                </a:tc>
              </a:tr>
              <a:tr h="46296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7171"/>
                    </a:solidFill>
                  </a:tcPr>
                </a:tc>
              </a:tr>
              <a:tr h="46296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7171"/>
                    </a:solidFill>
                  </a:tcPr>
                </a:tc>
              </a:tr>
              <a:tr h="46296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717171"/>
                    </a:solidFill>
                  </a:tcPr>
                </a:tc>
              </a:tr>
              <a:tr h="462960">
                <a:tc>
                  <a:txBody>
                    <a:bodyPr lIns="90000" rIns="90000" tIns="18000" bIns="18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7b1b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7164360" y="6021000"/>
          <a:ext cx="1511280" cy="362160"/>
        </p:xfrm>
        <a:graphic>
          <a:graphicData uri="http://schemas.openxmlformats.org/drawingml/2006/table">
            <a:tbl>
              <a:tblPr/>
              <a:tblGrid>
                <a:gridCol w="855720"/>
                <a:gridCol w="655560"/>
              </a:tblGrid>
              <a:tr h="12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Nom de la pièce :</a:t>
                      </a:r>
                      <a:r>
                        <a:rPr b="0" lang="en-US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feuille petit format</a:t>
                      </a:r>
                      <a:r>
                        <a:rPr b="0" lang="en-US" sz="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  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éférence :</a:t>
                      </a:r>
                      <a:r>
                        <a:rPr b="0" lang="en-US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MKX-72003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ste précédent :</a:t>
                      </a:r>
                      <a:r>
                        <a:rPr b="0" lang="en-US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découpage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4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Quantité :</a:t>
                      </a:r>
                      <a:r>
                        <a:rPr b="0" lang="en-US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4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ste :</a:t>
                      </a:r>
                      <a:r>
                        <a:rPr b="0" lang="en-US" sz="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pliage </a:t>
                      </a:r>
                      <a:endParaRPr b="0" lang="en-US" sz="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2232000" y="4976640"/>
          <a:ext cx="4032360" cy="1738440"/>
        </p:xfrm>
        <a:graphic>
          <a:graphicData uri="http://schemas.openxmlformats.org/drawingml/2006/table">
            <a:tbl>
              <a:tblPr/>
              <a:tblGrid>
                <a:gridCol w="2411280"/>
                <a:gridCol w="162108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Nom de la pièce :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feuille petit format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Référence :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MKX-7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ste précédent :  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écoup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Quantité :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Poste :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pli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7" name=""/>
          <p:cNvSpPr/>
          <p:nvPr/>
        </p:nvSpPr>
        <p:spPr>
          <a:xfrm>
            <a:off x="6300720" y="5661000"/>
            <a:ext cx="792360" cy="216000"/>
          </a:xfrm>
          <a:custGeom>
            <a:avLst/>
            <a:gdLst>
              <a:gd name="textAreaLeft" fmla="*/ 123840 w 792360"/>
              <a:gd name="textAreaRight" fmla="*/ 693360 w 792360"/>
              <a:gd name="textAreaTop" fmla="*/ 54000 h 216000"/>
              <a:gd name="textAreaBottom" fmla="*/ 162000 h 216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875640" y="0"/>
            <a:ext cx="22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méthode KAN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095480"/>
            <a:ext cx="20509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 Histor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2. Principes de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ègles de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ché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333399"/>
                </a:solidFill>
                <a:latin typeface="Arial"/>
              </a:rPr>
              <a:t>Gestion des priori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Compara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.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709308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132000" y="1557000"/>
            <a:ext cx="60120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ati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95160" cy="8240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398760" y="3200400"/>
            <a:ext cx="4384800" cy="36576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4145040" y="4051440"/>
            <a:ext cx="358560" cy="27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072040" y="4081320"/>
            <a:ext cx="35892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256360" y="314172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ar l’amo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384880" y="5248440"/>
            <a:ext cx="151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ar l’ava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5640" y="0"/>
            <a:ext cx="22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méthode KAN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095480"/>
            <a:ext cx="20509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 Histor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2. Principes de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Défin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Règles de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Sché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Gestion des priorit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333399"/>
                </a:solidFill>
                <a:latin typeface="Arial"/>
              </a:rPr>
              <a:t>Comparati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3.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709308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132000" y="1557000"/>
            <a:ext cx="6012000" cy="96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24000" y="260280"/>
            <a:ext cx="695160" cy="8240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132000" y="4149720"/>
            <a:ext cx="1800360" cy="78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STE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écou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72360" y="4149720"/>
            <a:ext cx="1871640" cy="78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STE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i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103" idx="3"/>
            <a:endCxn id="104" idx="1"/>
          </p:cNvCxnSpPr>
          <p:nvPr/>
        </p:nvCxnSpPr>
        <p:spPr>
          <a:xfrm>
            <a:off x="4932360" y="4544640"/>
            <a:ext cx="144036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6" name=""/>
          <p:cNvSpPr/>
          <p:nvPr/>
        </p:nvSpPr>
        <p:spPr>
          <a:xfrm>
            <a:off x="2268360" y="4508640"/>
            <a:ext cx="863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44000" y="4508640"/>
            <a:ext cx="900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"/>
          <p:cNvCxnSpPr/>
          <p:nvPr/>
        </p:nvCxnSpPr>
        <p:spPr>
          <a:xfrm rot="5400000">
            <a:off x="5668200" y="3268440"/>
            <a:ext cx="2520" cy="3348720"/>
          </a:xfrm>
          <a:prstGeom prst="bentConnector3">
            <a:avLst>
              <a:gd name="adj1" fmla="val 43900000"/>
            </a:avLst>
          </a:prstGeom>
          <a:ln w="38160">
            <a:solidFill>
              <a:srgbClr val="000000"/>
            </a:solidFill>
            <a:miter/>
            <a:tailEnd len="lg" type="triangle" w="med"/>
          </a:ln>
        </p:spPr>
      </p:cxnSp>
      <p:sp>
        <p:nvSpPr>
          <p:cNvPr id="109" name=""/>
          <p:cNvSpPr/>
          <p:nvPr/>
        </p:nvSpPr>
        <p:spPr>
          <a:xfrm>
            <a:off x="5076720" y="522936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NB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59280" y="38606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er de petits form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43000" y="3716280"/>
            <a:ext cx="12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u magas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244000" y="3716280"/>
            <a:ext cx="93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 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75640" y="0"/>
            <a:ext cx="22683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méthode KANB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0" y="1095480"/>
            <a:ext cx="205092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. Historiq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. Principes de b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99"/>
                </a:solidFill>
                <a:latin typeface="Arial"/>
              </a:rPr>
              <a:t>3. Appl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400"/>
              </a:spcBef>
              <a:tabLst>
                <a:tab algn="l" pos="0"/>
                <a:tab algn="l" pos="90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4T14:58:42Z</dcterms:created>
  <dc:creator>Gomet Aurelien</dc:creator>
  <dc:description/>
  <dc:language>en-US</dc:language>
  <cp:lastModifiedBy>LAURENTM</cp:lastModifiedBy>
  <dcterms:modified xsi:type="dcterms:W3CDTF">2005-03-28T09:42:00Z</dcterms:modified>
  <cp:revision>50</cp:revision>
  <dc:subject/>
  <dc:title>La méthode KANBAN</dc:title>
</cp:coreProperties>
</file>